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EFFD-24B3-44C6-9852-C48B0A8A70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4FD6-0763-466B-AA56-C23C75ADF40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4C7-98F0-44B5-A4E4-ACD2072D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1D2-B350-4231-BA4A-DA83EB77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388-49CD-448D-8A87-EA048239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CE9-7ADF-47ED-B018-7E831812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4CA3-2C15-4A76-97F9-770A1F9B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751-BCF0-41B4-A0C9-980F32C8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108-D401-457B-8592-2BF189ED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F64C-3399-478F-8343-6C501BC0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9D8-97EA-4029-8506-E7972F5C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45D-BBDB-4D5B-AFC3-AC6E92E6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D5B-0101-41EB-8565-D073F3A0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483-0F8C-49CD-94BD-77BE8A38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476A-8DD3-4282-A4C4-4B8D923B4474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5ffff"/>
                </a:solidFill>
                <a:latin typeface="Tahoma"/>
              </a:rPr>
              <a:t>Sdružení obcí</a:t>
            </a: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cs-CZ" sz="5400" spc="-1" strike="noStrike">
                <a:solidFill>
                  <a:srgbClr val="e5ffff"/>
                </a:solidFill>
                <a:latin typeface="Tahoma"/>
              </a:rPr>
              <a:t>ORLICKO</a:t>
            </a:r>
            <a:br>
              <a:rPr sz="5400"/>
            </a:b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6" descr="Logo SO"/>
          <p:cNvPicPr/>
          <p:nvPr/>
        </p:nvPicPr>
        <p:blipFill>
          <a:blip r:embed="rId1"/>
          <a:stretch/>
        </p:blipFill>
        <p:spPr>
          <a:xfrm>
            <a:off x="2556000" y="2276640"/>
            <a:ext cx="415908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Společné nákupy energii na ČMKB Kladno 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35280" y="1699920"/>
            <a:ext cx="5473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Doba realizace : každoročně od roku 20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Komodity : elektrická energie, zemní ply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Nákup na rok 2017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elektrická energie 12,7 mil. Kč, 900 odběrných mí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zemní plyn 9,2 mil. Kč , 85 odběrných mís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Hlavní partneři 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Svazek obcí Lanškrounsk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VAK Jablonné nad Orlicí, a.s.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Objekt informačního a sociálního zázemí na Červenovodském sedle 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19280" y="2133360"/>
            <a:ext cx="540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Doba realizace 2009-20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Provoz: od 1.1.2016 náj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P2103650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Hlavní projekty </a:t>
            </a:r>
            <a:r>
              <a:rPr b="1" lang="cs-CZ" sz="6600" spc="-1" strike="noStrike">
                <a:solidFill>
                  <a:srgbClr val="e5ffff"/>
                </a:solidFill>
                <a:latin typeface="Tahoma"/>
              </a:rPr>
              <a:t>Orlicka</a:t>
            </a: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připravované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Cyklostezky Orlick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tohrad – Pastvi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končená dokumentace pro územní říz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dání ÚR- září 20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dání SP – leden 2017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dpokládaný rozpočet : 25-30 mil.K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droje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R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FDI Č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íspěvky obcí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Cyklostezky Orlick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Žamberk – Nekoř – ( Pastviny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končená dokumentace pro územní říz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dání ÚR- září 20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dání SP – leden 2017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dpokládaný rozpočet : 15-20 mil.K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droje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R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FDI Č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Cyklostezky Orlick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tohrad – Jablonné nad Orlicí – Králík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ktualizace vyhledávací studie – říjen 20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dpokládaný rozpočet akce : 80-100 mil.Kč, IROP do 30 mil., bude nutno rozdělit - úse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droje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R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FDI Č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íspěvky ob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Cyklostezky Orlick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Žamberk – Rokytnice v Orlických horá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končená dokumentace pro územní říz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dání ÚR- srpen 20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dání SP – leden 2017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dpokládaný rozpočet : 15-20 mil.K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droje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R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íspěvky obcí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Cyklostezky Orlicka</a:t>
            </a:r>
            <a:br>
              <a:rPr sz="4000"/>
            </a:b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výhled</a:t>
            </a:r>
            <a:br>
              <a:rPr sz="4000"/>
            </a:b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Žamberk-Písečná-Hnátn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Žamberk-Záchlum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Žijeme spolu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Obsah za Orlicko : Vydání učebnic o dějinách, přírodě a geografii regionu Orlicko a Kladsko pro žáky základních šk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Cíl : stabilizace osídlení v regionu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artneři : Powiat Klodzko, Svazek gmin Kladské země, DS OHP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Rozpočet za Orlicko: 7 800 tis.Kč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Zdroje : Interreg V-A, příspěvky obcí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Termíny  : žádost březen 2015, realizace do 6/201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Základní údaj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Vznik : 199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Členské obce : viz.ma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Počet obyvatel : 37 47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Rozloha : 500 km</a:t>
            </a:r>
            <a:r>
              <a:rPr b="1" lang="cs-CZ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Hustota : 75 obyv./km</a:t>
            </a:r>
            <a:r>
              <a:rPr b="1" lang="cs-CZ" sz="32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Počet obcí :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Sněžník-Orlicko-Kladsko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Obsah za Orlicko: Singltreky Orlicka – I.etapa (ČV sedlo), parkoviště Červenovodské sedlo, marketing cestovního ruch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Cíl : využití přírodního potenciálu regionu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Partneři : Powiat Klodzko, Svazek gmin Kladské země, gmoina Stronie Slaskie ( rozhledna na Králickém Sněžníku) , obec Dolní Morava, Město Králíky, obec Červená Vod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Rozpočet za Orlicko: 14 500 tis.Kč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Zdroje : Interreg V-A, příspěvky obcí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ahoma"/>
              </a:rPr>
              <a:t>Termíny  : žádost květen 2015, realizace do 6/20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Stabilizace monitorovacích vrtů Kyšperské synklinály 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Obsah: řešení využití 260 monitorovacích vrtů v území Kyšperské synklinály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Cíl : stabilizace a zabezpečení zdroje pitné vody  v regionu Orlicko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Partneři : VAK Jablonné nad Orlicí a.s., VAK Žamberk v.o.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Stav : zpracována studie popisu vrtů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Rozpočet: není zná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Další postup : zpracování technických dokumentací využití pro každý monitorovací vrt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Zdroje : OPŽP, příspěvky vodohospodářských společností, Pardubický kraj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Termíny  : technické dokumentace průběžně do 12/201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Logo SO"/>
          <p:cNvPicPr/>
          <p:nvPr/>
        </p:nvPicPr>
        <p:blipFill>
          <a:blip r:embed="rId1"/>
          <a:stretch/>
        </p:blipFill>
        <p:spPr>
          <a:xfrm>
            <a:off x="2340000" y="1341360"/>
            <a:ext cx="4159080" cy="4248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Sdružení obcí Orlicko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04-08"/>
          <p:cNvPicPr/>
          <p:nvPr/>
        </p:nvPicPr>
        <p:blipFill>
          <a:blip r:embed="rId1"/>
          <a:stretch/>
        </p:blipFill>
        <p:spPr>
          <a:xfrm>
            <a:off x="539640" y="42840"/>
            <a:ext cx="828036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Hlavní projekty </a:t>
            </a:r>
            <a:r>
              <a:rPr b="1" lang="cs-CZ" sz="6600" spc="-1" strike="noStrike">
                <a:solidFill>
                  <a:srgbClr val="e5ffff"/>
                </a:solidFill>
                <a:latin typeface="Tahoma"/>
              </a:rPr>
              <a:t>Orlicka</a:t>
            </a: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realizované a současné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Na běžkách Orlick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Provozované region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Tahoma"/>
              </a:rPr>
              <a:t>Buková hora-Suchý vr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Tahoma"/>
              </a:rPr>
              <a:t>Červená Voda – Jeřáb – Králík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Tahoma"/>
              </a:rPr>
              <a:t>Dolní Morav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Provozní náklady – 750-1 000 tis.Kč – zdroje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Tahoma"/>
              </a:rPr>
              <a:t>obce Orlick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Tahoma"/>
              </a:rPr>
              <a:t>Lanškro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Tahoma"/>
              </a:rPr>
              <a:t>Ští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Tahoma"/>
              </a:rPr>
              <a:t>sponzoři</a:t>
            </a:r>
            <a:r>
              <a:rPr b="1" lang="cs-CZ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Technické zabezpečení</a:t>
            </a: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Tahoma"/>
              </a:rPr>
              <a:t>3 x rolba Pi-Bu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ahoma"/>
              </a:rPr>
              <a:t>Problém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Tahoma"/>
              </a:rPr>
              <a:t>finanční zdroj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Tahoma"/>
              </a:rPr>
              <a:t>obměna techniky – jedna rolba z roku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9" descr="100_0044"/>
          <p:cNvPicPr/>
          <p:nvPr/>
        </p:nvPicPr>
        <p:blipFill>
          <a:blip r:embed="rId1"/>
          <a:stretch/>
        </p:blipFill>
        <p:spPr>
          <a:xfrm>
            <a:off x="4648320" y="2195640"/>
            <a:ext cx="4244760" cy="31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Malé památky Orlick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Doba realizace 2002-20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Počet opravených památek 7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Finanční hodnota oprav 7,12 mil K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Zdroj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OV Pardubického kraj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říspěvky obc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Cyklostezka Letohrad –Lukavice- Žamberk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4608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Doba realizace 2009-20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Délka cyklostez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4,6 k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Provozní náklad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100 tis. Kč ročn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Zdro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říspěvky obc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P8263919"/>
          <p:cNvPicPr/>
          <p:nvPr/>
        </p:nvPicPr>
        <p:blipFill>
          <a:blip r:embed="rId1"/>
          <a:stretch/>
        </p:blipFill>
        <p:spPr>
          <a:xfrm>
            <a:off x="684360" y="620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Cyklostezka Červená Voda-Králíky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alizace 20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Délka cyklostez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5,4 k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Provozní nákla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100 tis. Kč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Zdroj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rozpočet města Králíky a obce Červená Vod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11:00:47Z</dcterms:created>
  <dc:creator>Tonda Filaja</dc:creator>
  <dc:description/>
  <dc:language>en-US</dc:language>
  <cp:lastModifiedBy>uzivatel</cp:lastModifiedBy>
  <dcterms:modified xsi:type="dcterms:W3CDTF">2016-05-20T13:13:39Z</dcterms:modified>
  <cp:revision>21</cp:revision>
  <dc:subject/>
  <dc:title>Sdružení obcí ORLICKO</dc:title>
</cp:coreProperties>
</file>